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0041-7749-4066-99AC-638190E71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582F-31EC-4046-9A02-A61B00493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670-7F75-47C4-8E28-7F322B42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962-E5AC-4D53-A5F3-C7474C7B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F7A-011D-4C59-814C-16264FCB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D37-C501-4396-BF21-4BDE726C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9B2A-C3D7-471B-BEF7-BF255659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DD5D-966B-4DEC-98D9-D2C8B3B7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E38E-F855-4183-8964-8C94A865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776A-5300-4893-A7D2-6F17E5D0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A19C-1C69-4AC3-A686-7BAC6D63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7BEA-1260-45D8-A6B8-46EEB73F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0566-B3D3-4DB0-9809-9BB65A4D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2D2-11B3-4292-8F3C-0157BF13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A96E-C33C-4590-8418-48C0738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0BBA-EE3C-4826-BD09-40545B92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36F4-1AC9-49A7-8045-0664EA5C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08A1-7BF8-40D2-95F1-F95A2D70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40D0-31ED-4F69-ABDD-41E698DF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63ACA-2245-4ADB-9619-51F56559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5001C-D73B-4B1E-A22B-500672B7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AE67F-0DA9-4C18-BEFF-C761EA2B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64EFB-711E-45CB-B6BD-9BB062A4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79594-C803-42B5-954A-8FD8965C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6D1-EFB3-43F5-910C-D0498F85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19DF9-6D00-47E6-9F06-0B775807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A588F-7A7A-4628-8442-8DA5B1BB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DF988-6090-4F78-863C-C4368067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F4628-4BCD-4C3F-A3A6-339C2CFC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6A023-88CB-4392-8C4A-E484E6C7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C5264-1689-40C8-8F42-210DDFAF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86312-0A37-4BA9-8372-8FBC0BA6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07A9-AB0F-4F89-B0D2-A01A1DFD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CB19-CA73-4E8A-A6D1-FCE5161D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ADF40-05FB-4B11-B2EF-B922FC35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89F-E36B-4DD3-95AA-CBF599D7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8434-7B52-4A88-929B-1760E6C3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BE19B-2129-4961-97F3-7E442FEA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976CE-6906-4013-9975-FDA179BD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557C-86A4-4673-B523-41A1443E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E259-45A8-4936-8FDB-3678CA3B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8B5AB-DF87-419E-90B3-8EF4B6BE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36702-896B-44E1-A949-499E5556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584F5-728E-4B2E-8AF5-B9F71DEB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319ED-DFE2-47B1-87C8-6CA70557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557-A152-4987-B55D-C2DE052F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44F-933A-4740-8493-F0FA988D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667-FE86-416E-BD90-5ECE95D6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6D2-8C89-4F2B-A3EA-0FE17927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020-25BE-4131-9E59-4001987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0780-FC82-4322-845D-3C27E9E918A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F3B2-1076-4821-8AE3-3F6736F2BDC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C09B-AC38-4D03-B0AA-3D9EA76074C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D850-E799-43C8-BD86-E215AFE53E36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rticles of Confeder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rst plan of government written by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ontinental Congress. Established a national legislature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35812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cess - 40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did the Coat of Arms activity make you feel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do you think the colonist felt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changes could have been made to make the activity more successful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24456"/>
                </a:solidFill>
                <a:uFillTx/>
                <a:latin typeface="Trebuchet MS"/>
              </a:rPr>
              <a:t>Articles of Confederation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6" name="Picture 2" descr="http://www.congressforkids.net/images/artofconfunclesam.jpg"/>
          <p:cNvPicPr/>
          <p:nvPr/>
        </p:nvPicPr>
        <p:blipFill>
          <a:blip r:embed="rId1"/>
          <a:stretch/>
        </p:blipFill>
        <p:spPr>
          <a:xfrm>
            <a:off x="380880" y="2819520"/>
            <a:ext cx="3857760" cy="2314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http://american-business.org/uploads/posts/2010-12/1291993160_articles-of-confederation.jpg"/>
          <p:cNvPicPr/>
          <p:nvPr/>
        </p:nvPicPr>
        <p:blipFill>
          <a:blip r:embed="rId2"/>
          <a:stretch/>
        </p:blipFill>
        <p:spPr>
          <a:xfrm>
            <a:off x="5867280" y="2590920"/>
            <a:ext cx="2286000" cy="36766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228600" y="50292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24456"/>
                </a:solidFill>
                <a:uFillTx/>
                <a:latin typeface="Comic Sans MS"/>
              </a:rPr>
              <a:t>Articles of Confede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plan of government written by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inental Congress. Established a national legislature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gue of Friends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82- All 13 states ratified constitu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house legislation &amp; each state had one vo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ws passed by 9/13 stat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icles passed by all stat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0" y="4191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24456"/>
                </a:solidFill>
                <a:uFillTx/>
                <a:latin typeface="Comic Sans MS"/>
              </a:rPr>
              <a:t>Confederate Congr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24456"/>
                </a:solidFill>
                <a:uFillTx/>
                <a:latin typeface="Comic Sans MS"/>
              </a:rPr>
              <a:t>Strengths of Artic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2286000"/>
            <a:ext cx="7391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inance of 178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Comic Sans MS"/>
              </a:rPr>
              <a:t>plan for surveying western land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Comic Sans MS"/>
              </a:rPr>
              <a:t>drawing state lin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rthwest Ordina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Comic Sans MS"/>
              </a:rPr>
              <a:t>created a plan to adopt new states to the un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34" name="Picture 2" descr="http://www.absolutemichigan.com/files/mihistory/1686.jpg"/>
          <p:cNvPicPr/>
          <p:nvPr/>
        </p:nvPicPr>
        <p:blipFill>
          <a:blip r:embed="rId1"/>
          <a:stretch/>
        </p:blipFill>
        <p:spPr>
          <a:xfrm>
            <a:off x="6705720" y="914400"/>
            <a:ext cx="2057400" cy="2573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ttp://wikihistoria.wikispaces.com/file/view/Land_Ordinance_of_1785_sm.jpg"/>
          <p:cNvPicPr/>
          <p:nvPr/>
        </p:nvPicPr>
        <p:blipFill>
          <a:blip r:embed="rId2"/>
          <a:stretch/>
        </p:blipFill>
        <p:spPr>
          <a:xfrm>
            <a:off x="7086600" y="4114800"/>
            <a:ext cx="18302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24456"/>
                </a:solidFill>
                <a:uFillTx/>
                <a:latin typeface="Comic Sans MS"/>
              </a:rPr>
              <a:t>Weaknesses of Artic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0" y="2362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s between could not be settled due to no national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l unity between states was non-exsist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xes could not be collect to provide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ral government did not have power to draft an arm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ws were hard to pass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 state retained sovereign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ong leadership was not provided because there was no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24456"/>
                </a:solidFill>
                <a:uFillTx/>
                <a:latin typeface="Trebuchet MS"/>
              </a:rPr>
              <a:t>Shay’s Rebell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9520" y="2362320"/>
            <a:ext cx="53341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ious of events that convinced the American people that change was needed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d to the invitation of delegatesto revise the Article of Confeder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5" descr="http://thepublicinterest.freedomblogging.com/files/2009/08/shays-rebellion.jpg"/>
          <p:cNvPicPr/>
          <p:nvPr/>
        </p:nvPicPr>
        <p:blipFill>
          <a:blip r:embed="rId1"/>
          <a:stretch/>
        </p:blipFill>
        <p:spPr>
          <a:xfrm>
            <a:off x="304920" y="22096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24456"/>
                </a:solidFill>
                <a:latin typeface="Comic Sans MS"/>
              </a:rPr>
              <a:t>Spell-out the Articles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228600" y="18288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ust know create a sentence that explains why that feature created problems for our early leaders. Each sentence must begin with one of the letters from the 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TIC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0" y="32767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ong leadership was not provided because there was no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Articles Matrix-1.jpg"/>
          <p:cNvPicPr/>
          <p:nvPr/>
        </p:nvPicPr>
        <p:blipFill>
          <a:blip r:embed="rId1"/>
          <a:stretch/>
        </p:blipFill>
        <p:spPr>
          <a:xfrm>
            <a:off x="-6480" y="-6480"/>
            <a:ext cx="9309240" cy="68709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2209680" y="2133720"/>
            <a:ext cx="30481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not want to have another powerful executive like King 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5562720" y="3352680"/>
            <a:ext cx="3581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get all nine states to agree to a new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gov’t unable to do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2133720" y="4648320"/>
            <a:ext cx="3276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r of being unfairly taxed by central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5334120" y="5715000"/>
            <a:ext cx="3581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country unprotected without a dependable military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0:03:42Z</dcterms:created>
  <dc:creator>hmhendri</dc:creator>
  <dc:description/>
  <dc:language>en-US</dc:language>
  <cp:lastModifiedBy>hmhendri</cp:lastModifiedBy>
  <dcterms:modified xsi:type="dcterms:W3CDTF">2011-11-02T01:10:22Z</dcterms:modified>
  <cp:revision>7</cp:revision>
  <dc:subject/>
  <dc:title>Slide 1</dc:title>
</cp:coreProperties>
</file>